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252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74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move the slide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252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74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  <a:defRPr b="0" i="1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A0E7B586-995D-48E0-BD1A-8B900E823526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everal of the projects that will be mentioned have been going on for a number of years, however the mentioned contribution in this presentation are funds and support that Sweden has specifically directed as a result of the flooding and landslides that affected BiH this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tshållare för bildnumm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45825280-E91F-4FA4-BE1B-BB23A053305F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79CB02CF-8B53-4E97-828A-BD930E53D9BB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ARMA= Fostering Agricultural Market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540711A5-F161-4C3A-91BF-5F88AC70CDC4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IRMA= The Fostering Interventions for Rapid Market Adva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REDO= Competitive Regional Econom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7805AD02-5BB8-4862-94E3-696EDC63DD2A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67EC130F-5E42-46FB-9803-E571AE2070FD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8BC6A632-9254-4EF4-BCBB-179396C1B894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4000DDA8-B4F0-4752-BB50-4B45A03F2D67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3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42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br>
              <a:rPr sz="3200"/>
            </a:br>
            <a:r>
              <a:rPr b="1" lang="sv-SE" sz="3200" spc="-1" strike="noStrike">
                <a:solidFill>
                  <a:srgbClr val="042896"/>
                </a:solidFill>
                <a:latin typeface="TradeGothic"/>
              </a:rPr>
              <a:t>Sweden’s support during the flooding and landslides in BiH 2014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1" descr=""/>
          <p:cNvPicPr/>
          <p:nvPr/>
        </p:nvPicPr>
        <p:blipFill>
          <a:blip r:embed="rId2"/>
          <a:stretch/>
        </p:blipFill>
        <p:spPr>
          <a:xfrm>
            <a:off x="2268360" y="2700360"/>
            <a:ext cx="4513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Municipal Training System Project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259 550 USD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2699"/>
                </a:solidFill>
                <a:latin typeface="Arial"/>
                <a:ea typeface="Arial"/>
              </a:rPr>
              <a:t>Additional support to the MTS Project for training in disaster relief management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Emphasized the lack of policies, procedural frameworks and institutional capacitie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ARMA Project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cus on the food and agricultural sector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farmers and producer organizations (POs) who have been affected by flood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covery of production, employment and incom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Agricultural value chain: primary production and veterinary service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IRMA Project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4,5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cus on tourism, forest and meta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private actor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SMEs in Krajina region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900000" y="3726000"/>
            <a:ext cx="738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CREDO Krajina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5 M SEK)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Water Purification Plants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Collaboration with the Swedish Civil Contingency Agency (MSB)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6 high capacity water purification plants to Tuzla and Zenica-Doboj Canton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resh drinking water to over 12 000 peopl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Donation of 2 mobile laboratorie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EIB Water and Sanitation Programme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90280" y="1773360"/>
            <a:ext cx="75150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allocation of funds from Investment Grants to flood damages recovery of municipal water and waste-water infrastructur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Waste Management and Solid Debris Specialist was put at the disposal of UNDP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commendations and solutions for safe, efficient and sustainable waste management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900000" y="3078000"/>
            <a:ext cx="738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Solid Waste Management Programme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20 000 SEK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Justice for Children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50 000 SEK)</a:t>
            </a:r>
            <a:br>
              <a:rPr sz="20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children in BiH through an on-going collaboration with UNICEF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Protection of certain vulnerable groups; children, women and elderly peopl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900000" y="3149640"/>
            <a:ext cx="738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Gender Action Plan (FIGAP)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50 000 SE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20:59:46Z</dcterms:created>
  <dc:creator>Lena Jern</dc:creator>
  <dc:description/>
  <dc:language>en-US</dc:language>
  <cp:lastModifiedBy>operater</cp:lastModifiedBy>
  <cp:lastPrinted>2014-09-24T07:47:53Z</cp:lastPrinted>
  <dcterms:modified xsi:type="dcterms:W3CDTF">2014-10-13T14:52:22Z</dcterms:modified>
  <cp:revision>342</cp:revision>
  <dc:subject/>
  <dc:title>Det här är Sveriges ambassad i Saraje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ktivitetskategori">
    <vt:lpwstr>7;#5.5. Informationsverksamhet|b6d74572-a680-43d6-a12e-13e7443d3800</vt:lpwstr>
  </property>
  <property fmtid="{D5CDD505-2E9C-101B-9397-08002B2CF9AE}" pid="3" name="ContentType">
    <vt:lpwstr>Word</vt:lpwstr>
  </property>
  <property fmtid="{D5CDD505-2E9C-101B-9397-08002B2CF9AE}" pid="4" name="ContentTypeId">
    <vt:lpwstr>0x010100D4E2D80DC721422ABBDF033BB3857F490300258E2FC9CE6A424895B86D9BAFAA2B04</vt:lpwstr>
  </property>
  <property fmtid="{D5CDD505-2E9C-101B-9397-08002B2CF9AE}" pid="5" name="DepID">
    <vt:lpwstr>3;0;0;232</vt:lpwstr>
  </property>
  <property fmtid="{D5CDD505-2E9C-101B-9397-08002B2CF9AE}" pid="6" name="Departementsenhet">
    <vt:lpwstr>1;#Utrikesdepartementet|9d481ed4-129e-47ac-a716-cf44fa41cd0b</vt:lpwstr>
  </property>
  <property fmtid="{D5CDD505-2E9C-101B-9397-08002B2CF9AE}" pid="7" name="Diarienummer">
    <vt:lpwstr/>
  </property>
  <property fmtid="{D5CDD505-2E9C-101B-9397-08002B2CF9AE}" pid="8" name="DokID">
    <vt:r8>43</vt:r8>
  </property>
  <property fmtid="{D5CDD505-2E9C-101B-9397-08002B2CF9AE}" pid="9" name="Nyckelord">
    <vt:lpwstr/>
  </property>
  <property fmtid="{D5CDD505-2E9C-101B-9397-08002B2CF9AE}" pid="10" name="Order">
    <vt:lpwstr>136300.000000000</vt:lpwstr>
  </property>
  <property fmtid="{D5CDD505-2E9C-101B-9397-08002B2CF9AE}" pid="11" name="QFMSP source name">
    <vt:lpwstr/>
  </property>
  <property fmtid="{D5CDD505-2E9C-101B-9397-08002B2CF9AE}" pid="12" name="RKOrdnaActivityCategory">
    <vt:lpwstr>5.5. Informationsverksamhet</vt:lpwstr>
  </property>
  <property fmtid="{D5CDD505-2E9C-101B-9397-08002B2CF9AE}" pid="13" name="RKOrdnaActivityCategory2">
    <vt:lpwstr>5.5. Informationsverksamhet</vt:lpwstr>
  </property>
  <property fmtid="{D5CDD505-2E9C-101B-9397-08002B2CF9AE}" pid="14" name="RKOrdnaCheckInComment">
    <vt:lpwstr/>
  </property>
  <property fmtid="{D5CDD505-2E9C-101B-9397-08002B2CF9AE}" pid="15" name="RKOrdnaClass">
    <vt:lpwstr>3</vt:lpwstr>
  </property>
  <property fmtid="{D5CDD505-2E9C-101B-9397-08002B2CF9AE}" pid="16" name="RKOrdnaDepartement">
    <vt:lpwstr>Utrikesdepartementet</vt:lpwstr>
  </property>
  <property fmtid="{D5CDD505-2E9C-101B-9397-08002B2CF9AE}" pid="17" name="RKOrdnaDepartement2">
    <vt:lpwstr>Utrikesdepartementet</vt:lpwstr>
  </property>
  <property fmtid="{D5CDD505-2E9C-101B-9397-08002B2CF9AE}" pid="18" name="RKOrdnaDiarienummer">
    <vt:lpwstr/>
  </property>
  <property fmtid="{D5CDD505-2E9C-101B-9397-08002B2CF9AE}" pid="19" name="RKOrdnaSarskildSkyddsvard">
    <vt:lpwstr>0</vt:lpwstr>
  </property>
  <property fmtid="{D5CDD505-2E9C-101B-9397-08002B2CF9AE}" pid="20" name="RKOrdnaSearchKeywords">
    <vt:lpwstr/>
  </property>
  <property fmtid="{D5CDD505-2E9C-101B-9397-08002B2CF9AE}" pid="21" name="Sekretess">
    <vt:lpwstr>0</vt:lpwstr>
  </property>
  <property fmtid="{D5CDD505-2E9C-101B-9397-08002B2CF9AE}" pid="22" name="SprakID">
    <vt:r8>0</vt:r8>
  </property>
  <property fmtid="{D5CDD505-2E9C-101B-9397-08002B2CF9AE}" pid="23" name="TaxCatchAll">
    <vt:lpwstr>7;#5.5. Informationsverksamhet|b6d74572-a680-43d6-a12e-13e7443d3800;#1;#Utrikesdepartementet|9d481ed4-129e-47ac-a716-cf44fa41cd0b</vt:lpwstr>
  </property>
  <property fmtid="{D5CDD505-2E9C-101B-9397-08002B2CF9AE}" pid="24" name="TemplateUrl">
    <vt:lpwstr/>
  </property>
  <property fmtid="{D5CDD505-2E9C-101B-9397-08002B2CF9AE}" pid="25" name="_dlc_DocId">
    <vt:lpwstr>DXK5ZKXJ2AU4-4-1208</vt:lpwstr>
  </property>
  <property fmtid="{D5CDD505-2E9C-101B-9397-08002B2CF9AE}" pid="26" name="_dlc_DocIdItemGuid">
    <vt:lpwstr>fb6ab37e-4f66-4b71-b790-75893eab370e</vt:lpwstr>
  </property>
  <property fmtid="{D5CDD505-2E9C-101B-9397-08002B2CF9AE}" pid="27" name="_dlc_DocIdUrl">
    <vt:lpwstr>http://rkdhs-ud/enhet/pik/_layouts/DocIdRedir.aspx?ID=DXK5ZKXJ2AU4-4-1208, DXK5ZKXJ2AU4-4-1208</vt:lpwstr>
  </property>
  <property fmtid="{D5CDD505-2E9C-101B-9397-08002B2CF9AE}" pid="28" name="c9cd366cc722410295b9eacffbd73909">
    <vt:lpwstr>5.5. Informationsverksamhet|b6d74572-a680-43d6-a12e-13e7443d3800</vt:lpwstr>
  </property>
  <property fmtid="{D5CDD505-2E9C-101B-9397-08002B2CF9AE}" pid="29" name="display_urn:schemas-microsoft-com:office:office#Author">
    <vt:lpwstr>Pia Roed</vt:lpwstr>
  </property>
  <property fmtid="{D5CDD505-2E9C-101B-9397-08002B2CF9AE}" pid="30" name="display_urn:schemas-microsoft-com:office:office#Editor">
    <vt:lpwstr>Pia Roed</vt:lpwstr>
  </property>
  <property fmtid="{D5CDD505-2E9C-101B-9397-08002B2CF9AE}" pid="31" name="k46d94c0acf84ab9a79866a9d8b1905f">
    <vt:lpwstr>Utrikesdepartementet|9d481ed4-129e-47ac-a716-cf44fa41cd0b</vt:lpwstr>
  </property>
  <property fmtid="{D5CDD505-2E9C-101B-9397-08002B2CF9AE}" pid="32" name="xd_ProgID">
    <vt:lpwstr/>
  </property>
  <property fmtid="{D5CDD505-2E9C-101B-9397-08002B2CF9AE}" pid="33" name="xd_Signature">
    <vt:lpwstr/>
  </property>
</Properties>
</file>